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A588-1188-4DB2-A8E9-D0E4880F5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BD87-D53F-48DC-A928-4B0E0BCC5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A6C6-508D-4024-868A-F29C503FC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B59-B0CB-4FA0-9BBA-34A98342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333-0FE7-4AF8-9E8E-7BD5DD54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2A69E-8A00-47DD-AFE1-BCDDD2F9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2DED9-BE39-4FD4-BC0B-DABF9985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6F01B-FF9B-46EA-941D-7B5BF047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8CA63-5BBB-4B36-8644-11FAF23C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89BA3-F690-461D-98AC-CE6AE4C0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B30BD-DA2C-45F1-B2E0-3F372509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BF8A1-AA86-4CC5-9155-7C42DCB6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8D1E1-3638-4038-8A57-6149858F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93E4D-7B6C-4551-B70F-BEA6491D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075EF-E164-4893-B834-F1CE6B1B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FC1-F298-4F33-A1F2-8647DEDC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F3D3A-08CF-4FF9-B7AD-B73FA3D0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FFC50-5936-4AFB-9183-95D060A1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21F4E-EA8A-461D-9C86-7EFDD26E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73D42-0C98-4ECF-AC64-AC30977A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19D25-4ADF-4239-B3E7-5E09FE9F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61B0B-8E36-48EE-BA7D-45930571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5C052-DEC4-406D-AE13-B68C9E9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7CEC1-38B8-45A1-9FE0-526BDA93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4A586-834D-49EB-A7F5-97CAB771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A57D9-EF41-412D-9B64-5D545C33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9CF-1613-4F3C-BAE5-9BBF1580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89538-A306-44EE-90DA-8D748084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54BB3-8E6F-4A57-8B71-7A7DF644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2C827-C23D-4B0A-A8F5-FDE50DB8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C4807-5901-4DCB-8572-312CC10F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55E4D-BF86-46E9-85D2-A5A1D8E7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1463E-FF21-49F3-B208-AE218F89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09F59-DD84-4FDF-AABD-490CFF55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F953B-2F7C-400C-AD03-4939EF61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B3767-009A-423A-A6FB-EE1879EC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84509-19CA-4A68-9A8B-04AD60B7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FC57-58CB-4748-B8D1-D5462021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E5593-50BA-4DA4-9DC0-86ADF663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C2139-5435-4718-99D8-820FE170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EAEFF-1732-43A9-A813-7E9CDE30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ADDAE-69E1-4384-A609-DD74B734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86CEA-EF7C-4D5B-A433-CD678C42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3DB9F-9B57-421C-8807-E8008F9B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F843E-9DE8-4668-AED0-977F8F48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23D29-CEA6-49E7-8B1F-CA8CFFF2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3B3D2-26EF-45C6-8051-076F9BA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A5A50-42D9-4291-892A-E2E96D3C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4351-9D03-4C35-A044-6523BB65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A2569-2997-4C43-822B-EA4EDA5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CCD84-7CCA-4462-9A27-07EBF45C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A807E-28EE-4306-85DA-88C5AAFE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C0414-D431-4601-B115-65D94C51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63336-F44A-408F-808C-BC3FB61B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1E56-B117-4E21-9F9C-D1144E23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30CD-B0BD-41C6-8F3F-C1D154C1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3450-1A9A-4EA5-BA48-4FAA34BA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69F6-D10E-476C-8917-89632526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0608-58B2-49A3-A7AA-8116BC5A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D95-E1A1-4E2D-BB7D-52CEEF64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1064-72C9-4522-B9F5-5E5B0A1C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E72D-B93D-4E6D-BFF7-5DF21649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62C5-ED47-4418-BC44-4B04E72A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ACED-CE21-4C0B-8FC4-98C813FA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9E6B-7CB5-45F6-AEF2-E05F9646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1281-EDF8-474E-9B3C-CE5CB29D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9C566-4185-4E81-8A20-0840A4E9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FDF1-80E2-41FE-BE0D-77F790B5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D8F7B-D4FE-4863-A24D-FD55066E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76813-29C8-4209-B02D-2ED374AB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4F9-982E-4A55-9EF7-C885EFE6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72145-853F-47F1-9360-CF0A36F2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C226-5990-4F62-B8F4-A2889849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1940-EF5B-46C3-964D-004995CA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79118-5154-4D3A-AEEF-CC22100E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85E7-3207-4F5A-A4EE-8952128E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59C7-594C-4EBD-8798-12F609AD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F1F6-D8E6-4CB7-8738-D781D7C5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B8011-D548-46F6-BB0F-8F8D44E9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65F01-E267-483C-AE16-4FF762B2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E295E-B116-430D-8BAC-016FE928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313-EC53-4ECB-8FAE-7F842CD3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3D11-905F-4A2F-8217-ADD5B66A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59FB2-B489-4B34-AD16-94BCF94E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3B865-44D6-48E0-88AB-4852B6A5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C8E6F-07C8-499D-A796-B26A4F7F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23D4-3D77-4592-87A7-B19F54C1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8CAD8-E350-4224-90C9-E560F485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7E65B-414F-4E2F-9D2F-3F3EA890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E3B8D-C199-4992-99A6-9810F797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B14A4-2C92-455F-A33F-FE073CF4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B0EBC-A8B0-4B43-A84E-4C43C4AA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5EE-CE40-460B-8755-F4EA097F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D22F0-14CF-42A0-97E5-2CC20032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FC82F-81D3-4499-AE2A-C07A2E28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55D8D-8AFB-4CCB-B806-041DB35A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F2C93-121C-4589-BF17-0171FB1C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5C53C-8510-44EA-A75A-E32272EC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F68E4-8C0B-41D0-85DE-F34155A5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07121-D044-4FA4-A548-C1DB3B73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53DA3-E950-45B7-BEFC-91C7D285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CF2A7-6D16-44CE-9FEA-85BCDC0A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7418E-D7D5-44C2-AFF6-F32FDA47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6D6-773E-4B11-A07D-22635C90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C6309-7D97-4DF4-98CD-D494507E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0D279-9A7B-426C-959F-8255CEEB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D379-0576-46EB-94A6-1BBD3A55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260C7-1BE0-4F8C-9A69-563E6619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5D6EE-5EC3-44AD-A2A8-C676EBBC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385C7-E91F-41B1-9B6A-B41C3FAB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2627F-7BED-4D51-B09D-20599F2D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F2E71-9DD6-45F6-8695-B2BCC486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31F6D-0953-43EB-BE9F-37475B4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6F11F-EAE1-4CE9-86F1-770133F7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115E-D606-46AC-BB36-4763F8F0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E1994-C42E-401B-A40E-CD08F6EE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DF62E-0CA0-4967-B156-870B7CDB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6354E-9E88-49AE-BA01-8C6DADAA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25A30-C53F-4D42-9537-EC6C4602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275D5-B185-4DE8-9AEE-8FF6F2F5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C1419-6326-4DB3-BE0E-EB8CEC9E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BB4B6-EC2B-4C3B-B1E6-4B08D5EF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2953D-2DB8-41B4-9860-7833A543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62DC0-1FB5-4BD9-961A-30DB5E00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060C-F9A3-4A1C-B7B5-2B66914A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9DC-D381-4CBC-9627-AAE829CD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3F98B-0399-494F-9391-32323FE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3A403-D1C9-445B-8D44-F9091096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50CAF-6D8B-43F3-8651-06A42FDD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5E18D-2C8D-41FF-A2DC-9A705D5D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861F9-325D-46FB-B7CF-86F8D6B0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27B8A-2B81-4E17-A7DD-C5738180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7A15E-D031-4790-9363-AE0FDBC9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FAFDA-4B97-4291-9922-7203CE57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05833-6ECF-41CC-97AC-6A7C0F2F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F8510-8025-4E01-8230-3B77183A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76F-6922-433E-A28B-74234994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0819A-5F85-4103-933F-C495129A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93403-46D3-44A6-88C3-8C1C4054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C25F1-AA30-4B71-8CF1-A9D9563F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5B0EF-13C1-4204-9F57-C7AC541C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25607-D921-491C-8D68-4015CA49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A9BCA-0984-4071-BEFF-C8F2D350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D3A25-8CE4-4269-9CFA-8D3FF7E1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F3A05-B76A-47F7-85F6-251B49F2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1B444-CEE2-4722-ACFC-C1CA589C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A3458-24E4-47FA-80A3-4476352C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0C7F-F603-44BA-870F-783916B83A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1A34-8E92-457F-B052-BC20098B4F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AFD7-B0C0-4D6B-B433-B86286F5BF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E758-CBCA-47FA-91D6-AAD5C47B24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EAEA-3DDA-4A1B-9EA4-6D16583524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2851-B7FB-4FED-9EB0-B7B6D28544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C288-41B1-4E1C-A256-47C2170C9B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0011-369E-4D27-9075-1CE48297D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11A2-1EC5-459E-95E3-E2939E5083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6D10-E0A3-457C-9F31-E6CC6ECB84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0391-041D-48DF-8B8C-AE48ACB51B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3C9C-070E-4BB1-BB1D-3E2E1AA90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X&amp;start=14&amp;oi=define&amp;ei=b726Sfz6I5GgM-XGjbII&amp;sig2=iO0LD4kH8qPfnXF8hpVVJQ&amp;q=http://www.cliftonpark.org/contentredirect.asp%3FMemberID%3D3798%26CategoryURL%3Darticles&amp;usg=AFQjCNEq4mKWaM9tZ9f5BSGGcVcYMJIWnA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EWALL     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firewall is a piece of hardware or software program which protects a computer or network from attacks from intruders and hackers.</a:t>
            </a:r>
            <a:br>
              <a:rPr sz="1000"/>
            </a:br>
            <a:r>
              <a:rPr b="0" lang="en-US" sz="10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cliftonpark.org/contentredirect.asp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RISD must have firewalls in place in order to keep the flow of traffic on our network running smoothly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2" descr="C:\Documents and Settings\101eckertpa.RRISD\Local Settings\Temporary Internet Files\Content.IE5\RWBUFX4I\MCj04316220000[1].png"/>
          <p:cNvPicPr/>
          <p:nvPr/>
        </p:nvPicPr>
        <p:blipFill>
          <a:blip r:embed="rId2"/>
          <a:stretch/>
        </p:blipFill>
        <p:spPr>
          <a:xfrm>
            <a:off x="685800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0:42:43Z</dcterms:created>
  <dc:creator>101eckertpa</dc:creator>
  <dc:description/>
  <dc:language>en-US</dc:language>
  <cp:lastModifiedBy>RRISD</cp:lastModifiedBy>
  <dcterms:modified xsi:type="dcterms:W3CDTF">2009-03-13T20:15:39Z</dcterms:modified>
  <cp:revision>3</cp:revision>
  <dc:subject/>
  <dc:title>FIREWALL      </dc:title>
</cp:coreProperties>
</file>